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27B-8EFD-4034-984A-93DCCE3F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1C1-651E-443E-AA7F-C22BED72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4DF-A466-4653-98BE-9AEF6727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5C6-EA4D-4D14-82B2-651188EC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5E6-11A6-4628-AE93-5C30B3F4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3A3-ED38-4DD9-AC4D-6C52C7D5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205-C96F-45DA-A265-D4ABEB43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848-CB92-4240-971D-FDF85256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74D-BDEE-46FC-B14F-5D8156B6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416-7FB6-46B2-8817-34841A8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52E-9F34-408E-9BE6-13E73D28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387-899F-411D-AE7C-EA51836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8AB86-8261-4243-8C0C-E84402D86F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9920" y="-1191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Scramble for Afric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6400800" cy="66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1728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t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520" y="1188720"/>
            <a:ext cx="9896400" cy="619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rlin Conference was held in Berlin, Germany in 18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 Chancellor Otto von Bismarck invited leaders from 13 European nations and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our purposes today, 8 nations are repres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erence was prompted by recent land grabs in Africa by European nations, particularly Belg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c goal was to work out a peaceful agreement about how Africa would be divided so as to avoid military conflict between the European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frican representatives were 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ass today, we will be re-creating the colonization of Africa from the beginnings in the 1500's up through the Berlin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rlin Conference (188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93726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0280" y="109440"/>
            <a:ext cx="92534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5040" y="950400"/>
            <a:ext cx="9299520" cy="636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country card and a colored pencil of your assigne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bout your country's aims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lacard (name card) for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 country and your goals to your conferenc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for further directions (they will follow the “directions and questions” sheet that has been hand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arenR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ompleting the activity, work together in small groups to answer the questions on th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claims in Africa before the Berlin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7086600" cy="65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907236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History of Colon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71520" y="4200480"/>
            <a:ext cx="504036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884 and the mid 1900’s, most of Africa was under European colonial r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nations drew most of Africa’s current political boundaries, and often did not take local ethnic divisions into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2360" y="1427040"/>
            <a:ext cx="4568760" cy="5459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64120" y="839880"/>
            <a:ext cx="3036960" cy="327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63640" y="688824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in 19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3:55:09Z</dcterms:created>
  <dc:creator/>
  <dc:description/>
  <dc:language>en-US</dc:language>
  <cp:lastModifiedBy/>
  <cp:revision>1</cp:revision>
  <dc:subject/>
  <dc:title/>
</cp:coreProperties>
</file>